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13B93-8C5E-4EC3-89CB-4A09DBB2A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78C6A-D353-4ECD-BDD2-0B741E8A5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1A5F0-1A18-4BA9-94BC-55A3439DF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495EF-FEBC-4853-B257-17909606D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B3C4A-4ADF-4BEA-BA13-C374A638A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AA9B9-814D-4401-B215-711670ED7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B59DC-89B9-4E0A-AA0F-E935C5BAC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74C79-30AC-4083-B112-18379C9D1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C2E36-1844-4CA1-977A-320A224EB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706FC-9205-4255-92E3-67DA5FF1B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B484E-165A-4DED-B8E4-0B484CAEF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07D7E-AAA7-4140-8157-4D340D977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4DE3-F1D8-4F54-862F-6F4AE237552A}"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Modulo 6.</a:t>
            </a:r>
            <a:br>
              <a:rPr sz="4400"/>
            </a:br>
            <a:r>
              <a:rPr b="1" lang="es-ES" sz="4400" spc="-1" strike="noStrike">
                <a:solidFill>
                  <a:srgbClr val="000000"/>
                </a:solidFill>
                <a:latin typeface="Calibri"/>
              </a:rPr>
              <a:t>Complicaciones tras el ictus</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Labilidad emocional</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Problemas de control emocional: </a:t>
            </a:r>
            <a:endParaRPr b="0" lang="en-US" sz="21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De pronto pueden echarse a reír a carcajadas y momentos después llorar desconsoladamente.</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stas expresiones, reflejan exageradamente los sentimientos reales del paciente, pero en otras son por completo ajenas a cómo se siente realmente.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sta situación se denomina ”</a:t>
            </a:r>
            <a:r>
              <a:rPr b="1" lang="es-ES" sz="1900" spc="-1" strike="noStrike">
                <a:solidFill>
                  <a:srgbClr val="000000"/>
                </a:solidFill>
                <a:latin typeface="Calibri"/>
              </a:rPr>
              <a:t>labilidad o incontinencia emocional”.</a:t>
            </a:r>
            <a:r>
              <a:rPr b="0" lang="es-ES" sz="1900" spc="-1" strike="noStrike">
                <a:solidFill>
                  <a:srgbClr val="000000"/>
                </a:solidFill>
                <a:latin typeface="Calibri"/>
              </a:rPr>
              <a:t>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Con frecuencia, esta situación mejora con el tiempo.</a:t>
            </a:r>
            <a:endParaRPr b="0" lang="en-US" sz="19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 importante que los familiares entiendan que se trata de una manifestación del ictus y que está completamente fuera del control voluntario del pacient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Hay que restarles importancia e intentar que nos duela lo menos posible.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Calibri"/>
              </a:rPr>
              <a:t>Depresión y otros trastornos psicológicos tras el ictus.</a:t>
            </a:r>
            <a:endParaRPr b="0" lang="en-US" sz="4400" spc="-1" strike="noStrike">
              <a:solidFill>
                <a:srgbClr val="000000"/>
              </a:solidFill>
              <a:latin typeface="Calibri"/>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Depresió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actor de mal pronóstico de recuperación funciona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relacionan con un incremento de la morbi-mortalida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íntomas de la depresión post-ictus en tres esferas</a:t>
            </a:r>
            <a:endParaRPr b="0" lang="en-US" sz="24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Tristeza, las personas se sienten tristes, tienen ganas de llor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Anedonia (falta de interés por las cosas del días a dí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íntomas somáticos como cansancio, fatiga, anorexia... </a:t>
            </a:r>
            <a:endParaRPr b="0" lang="en-US" sz="22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Y también tienen síntomas de carácter cognitivo</a:t>
            </a:r>
            <a:endParaRPr b="0" lang="en-US" sz="24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ficultades para proyectar su memor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ara planificar las cosa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ara tomar decision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anejo de la depresión post ictu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Fármaco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ero el tratamiento farmacológico es sólo uno de los aspectos, por ello hay que tener en cuenta el resto de factores y elaborar estrategias, por ejemplo, desde el punto de vista del trabajo social, asistentes social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Que los pacientes no queden aislados en su casa y tengan contacto con la sociedad, en centros de día, con grupos de pacientes que compartan experienci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Factores que se asocian a la aparición de la depresión</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grado de discapacida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articipación social disminuíd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dad avanzad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tructura familiar deficien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sicopatología previa</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 importante reconocer también la depresión en los familiares de los paciente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Casi el 60% presenta síntomas de sobrecarga y la ansiedad es alta. Esto también hay que tratarlo y hay que corregirlo por el bien de los cuidador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Calibri"/>
              </a:rPr>
              <a:t>Deterioro cognitivo</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Síntomas menos reconocibles:</a:t>
            </a:r>
            <a:endParaRPr b="0" lang="en-US" sz="21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Memoria</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Atención</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Funciones ejecutivas</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mociones. </a:t>
            </a:r>
            <a:endParaRPr b="0" lang="en-US" sz="19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os modelos neuropsicológicos actuales consideran cada una de estas funciones se llevan a cabo mediante redes funcionales, en las que participan una (o parte de una) estructura anatómica.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tas redes son plásticas, de tal manera que cuando se produce un fallo pueden formarse rutas o procesos alternativos.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te reajuste tarda un tiempo en ser realmente operativo, por lo que en la fase aguda del ictus los síndromes cognitivos son más intensos, reflejando la disfunción de toda la re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Deterioro cognitivo postictu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Calibri"/>
              </a:rPr>
              <a:t>Acúmulo de varios ictus </a:t>
            </a:r>
            <a:endParaRPr b="0" lang="en-US" sz="3400" spc="-1" strike="noStrike">
              <a:solidFill>
                <a:srgbClr val="000000"/>
              </a:solidFill>
              <a:latin typeface="Calibri"/>
            </a:endParaRPr>
          </a:p>
          <a:p>
            <a:pPr marL="343080" indent="-343080">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Calibri"/>
              </a:rPr>
              <a:t>Lesión estratégica</a:t>
            </a:r>
            <a:endParaRPr b="0" lang="en-US" sz="3400" spc="-1" strike="noStrike">
              <a:solidFill>
                <a:srgbClr val="000000"/>
              </a:solidFill>
              <a:latin typeface="Calibri"/>
            </a:endParaRPr>
          </a:p>
          <a:p>
            <a:pPr marL="343080" indent="-343080">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Calibri"/>
              </a:rPr>
              <a:t>Síntomas</a:t>
            </a:r>
            <a:endParaRPr b="0" lang="en-US" sz="3400" spc="-1" strike="noStrike">
              <a:solidFill>
                <a:srgbClr val="000000"/>
              </a:solidFill>
              <a:latin typeface="Calibri"/>
            </a:endParaRPr>
          </a:p>
          <a:p>
            <a:pPr lvl="1" marL="743040" indent="-28584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Pérdida de memoria</a:t>
            </a:r>
            <a:endParaRPr b="0" lang="en-US" sz="3100" spc="-1" strike="noStrike">
              <a:solidFill>
                <a:srgbClr val="000000"/>
              </a:solidFill>
              <a:latin typeface="Calibri"/>
            </a:endParaRPr>
          </a:p>
          <a:p>
            <a:pPr lvl="1" marL="743040" indent="-28584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Desorientación</a:t>
            </a:r>
            <a:endParaRPr b="0" lang="en-US" sz="3100" spc="-1" strike="noStrike">
              <a:solidFill>
                <a:srgbClr val="000000"/>
              </a:solidFill>
              <a:latin typeface="Calibri"/>
            </a:endParaRPr>
          </a:p>
          <a:p>
            <a:pPr lvl="1" marL="743040" indent="-28584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Dificultad a la hora de planificar acciones,</a:t>
            </a:r>
            <a:endParaRPr b="0" lang="en-US" sz="3100" spc="-1" strike="noStrike">
              <a:solidFill>
                <a:srgbClr val="000000"/>
              </a:solidFill>
              <a:latin typeface="Calibri"/>
            </a:endParaRPr>
          </a:p>
          <a:p>
            <a:pPr lvl="1" marL="743040" indent="-28584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Alteraciones de la conducta</a:t>
            </a:r>
            <a:endParaRPr b="0" lang="en-US" sz="3100" spc="-1" strike="noStrike">
              <a:solidFill>
                <a:srgbClr val="000000"/>
              </a:solidFill>
              <a:latin typeface="Calibri"/>
            </a:endParaRPr>
          </a:p>
          <a:p>
            <a:pPr lvl="1" marL="743040" indent="-28584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Cambios en la personalidad. </a:t>
            </a:r>
            <a:endParaRPr b="0" lang="en-US" sz="3100" spc="-1" strike="noStrike">
              <a:solidFill>
                <a:srgbClr val="000000"/>
              </a:solidFill>
              <a:latin typeface="Calibri"/>
            </a:endParaRPr>
          </a:p>
          <a:p>
            <a:pPr lvl="1" marL="743040" indent="-28584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 </a:t>
            </a:r>
            <a:r>
              <a:rPr b="0" lang="es-ES" sz="4000" spc="-1" strike="noStrike">
                <a:solidFill>
                  <a:srgbClr val="000000"/>
                </a:solidFill>
                <a:latin typeface="Calibri"/>
              </a:rPr>
              <a:t>Manejo de las alteraciones cognitivas:</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Que el paciente se mantenga en un ambiente conocido</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Que las actividades se realicen de la forma habitual</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Sin prisas, empleando el tiempo que precise</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Contando con la paciencia de sus cuidadores</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Controles necesarios tras un ictu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a vez dado de alta, el paciente que ha tenido un ictus va a tener que seguir un plan de control con su médico de atención primaria para controlar:</a:t>
            </a:r>
            <a:endParaRPr b="0" lang="en-US" sz="28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La aparición de complicaciones post hospitalarias</a:t>
            </a: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El tratamiento seguido con sus posibles efectos secundarios</a:t>
            </a: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El cumplimiento de las normas de hábitos de vida </a:t>
            </a: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El programa de revisiones establecido</a:t>
            </a:r>
            <a:endParaRPr b="0" lang="en-US" sz="25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programa de revisiones dependerá de la causa del ictus. Algunos pacientes deberán visitar a su cardiólogo, algunos pueden necesitar al hematólogo, al endocrinólog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Controles específico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Neurólogo</a:t>
            </a:r>
            <a:endParaRPr b="0" lang="en-US" sz="24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Generalmente los pacientes son seguidos por su neurólogo para comprobar la evolución posthospitalaria y para completar el estudio etiológico si no se había finalizado ante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n algunos hospitales se dispone de una consulta específica para pacientes cerebrovascular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uede ser necesario realizar pruebas de control como análisis o ecografías o pruebas de neuroimagen.</a:t>
            </a:r>
            <a:endParaRPr b="0" lang="en-US" sz="22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Rehabilitador</a:t>
            </a:r>
            <a:endParaRPr b="0" lang="en-US" sz="24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rehabilitador supervisará la evolución clínica y determinará si se están cumpliendo los objetivos planteados al inicio.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e recomienda evaluar en 6 meses el resultado de la rehabilitació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Calibri"/>
              </a:rPr>
              <a:t>Complicaciones generales tras un ictus</a:t>
            </a:r>
            <a:endParaRPr b="0" lang="en-US" sz="4400" spc="-1" strike="noStrike">
              <a:solidFill>
                <a:srgbClr val="000000"/>
              </a:solidFill>
              <a:latin typeface="Calibri"/>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Calibri"/>
              </a:rPr>
              <a:t>Detección de complicaciones</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Si presentara alguno de los síntomas que a continuación se relacionan, debe consultar a su médico.</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Síntomas de nuevo ictus: </a:t>
            </a:r>
            <a:endParaRPr b="0" lang="en-US" sz="14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Repetición de aquellos que tuvo en el primer ictus u otros, como pérdida de fuerza, acorchamiento u hormigueo en otra parte del cuerpo, que le hagan sospechar un nuevo ictus.</a:t>
            </a:r>
            <a:endParaRPr b="0" lang="en-US" sz="13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Síntomas cardiacos</a:t>
            </a:r>
            <a:endParaRPr b="0" lang="en-US" sz="14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Dolor en el pecho, que le dificulta la respiración y que puede acompañarse de sudación o correrse al hombro, garganta o espalda.</a:t>
            </a:r>
            <a:endParaRPr b="0" lang="en-US" sz="13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Crisis epiléptica o pérdida de la conciencia.</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Pérdida de relación con el entorno o los familiares o amigos, como si estuviera «ausente».</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Signos de trombosis venosa</a:t>
            </a:r>
            <a:endParaRPr b="0" lang="en-US" sz="14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Hinchazón con frialdad del pie, pierna o muslo.</a:t>
            </a:r>
            <a:endParaRPr b="0" lang="en-US" sz="13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Signos articulares</a:t>
            </a:r>
            <a:endParaRPr b="0" lang="en-US" sz="14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Dolor en el hombro o el brazo, que le impida moverlos adecuadamente. </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Dolor e hinchazón de la mano.</a:t>
            </a:r>
            <a:endParaRPr b="0" lang="en-US" sz="13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Hemorragia por encías o nariz, o sangre en la orina, especialmente si está tomando anticoagulante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0" lang="es-ES" sz="1400" spc="-1" strike="noStrike">
                <a:solidFill>
                  <a:srgbClr val="000000"/>
                </a:solidFill>
                <a:latin typeface="Calibri"/>
              </a:rPr>
              <a:t>Infección urinaria</a:t>
            </a:r>
            <a:endParaRPr b="0" lang="en-US" sz="14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Cambios al orinar, sobre todo si tiene sensación de quemazón y tiene que hacerlo con mucha frecuencia.</a:t>
            </a:r>
            <a:endParaRPr b="0" lang="en-US" sz="13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0" lang="es-ES" sz="1400" spc="-1" strike="noStrike">
                <a:solidFill>
                  <a:srgbClr val="000000"/>
                </a:solidFill>
                <a:latin typeface="Calibri"/>
              </a:rPr>
              <a:t>Molestias abdominales, </a:t>
            </a:r>
            <a:endParaRPr b="0" lang="en-US" sz="14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Especialmente en relación con la toma de la medicación. De igual modo, síntomas como náuseas, mareo o inestabilidad, que usted crea que tienen relación con la medicación.</a:t>
            </a:r>
            <a:endParaRPr b="0" lang="en-US" sz="13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0" lang="es-ES" sz="1400" spc="-1" strike="noStrike">
                <a:solidFill>
                  <a:srgbClr val="000000"/>
                </a:solidFill>
                <a:latin typeface="Calibri"/>
              </a:rPr>
              <a:t>Depresión, con desinterés por las cosas, abandono de las actividades de la vida diaria, tristeza, etc.</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Calibri"/>
              </a:rPr>
              <a:t>Consejos práctico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s recomendable que lleve siempre un informe médico lo más actualizado posible, por si necesitara asistencia médica allí donde vaya.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Si no está incluida en éste, haga una lista detallada de todos los medicamentos que toma, con su nombre correctamente escrito, dosis y horario de administración.</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No confíe en su memoria: es más práctico, rápido y seguro llevar, en un lugar de fácil acceso, una lista de medicamentos actualizada.</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Viaje siempre con los medicamentos que habitualmente emplea en cantidad suficiente para cubrir los días que dure su desplazamiento. Llévelos con usted, a ser posible no con el equipaje, para evitar el riesgo de extravío.</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Tenga especial precaución si viaja al extranjero, ya que el cambio de nombre comercial, el idioma o la exigencia de receta pueden dificultar la compra de medicina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Si necesita controles de laboratorio (p. Ej., De sintrom) y su estancia va a ser prolongada, contacte con el centro de salud más próximo que pueda realizar esos controle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Dolor en el hombro paralizado</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uele deberse a contracturas musculares locales por espasticidad o a una subluxació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necesario actuar de manera preventiva puesto que una vez instaurado el dolor, el manejo es complicado.</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evención:</a:t>
            </a:r>
            <a:endParaRPr b="0" lang="en-US" sz="24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Movilizaciones periódicas de la articulación del hombro</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Uso de un cabestrillo para sujetar el hombro durante la deambulació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Vendaje funcional. </a:t>
            </a:r>
            <a:endParaRPr b="0" lang="en-US" sz="22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i el dolor es importante y rebelde al tratamiento analgésico habitual, deberá consultar con su médico para un correcto diagnóstico y tratamient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Terapias disponib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Calibri"/>
              </a:rPr>
              <a:t>Estimulación eléctrica funcional</a:t>
            </a:r>
            <a:endParaRPr b="0" lang="en-US" sz="3300" spc="-1" strike="noStrike">
              <a:solidFill>
                <a:srgbClr val="000000"/>
              </a:solidFill>
              <a:latin typeface="Calibri"/>
            </a:endParaRPr>
          </a:p>
          <a:p>
            <a:pPr lvl="1" marL="743040" indent="-28584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Calibri"/>
              </a:rPr>
              <a:t> </a:t>
            </a:r>
            <a:r>
              <a:rPr b="0" lang="es-ES" sz="3300" spc="-1" strike="noStrike">
                <a:solidFill>
                  <a:srgbClr val="000000"/>
                </a:solidFill>
                <a:latin typeface="Calibri"/>
              </a:rPr>
              <a:t>Fisioterapia</a:t>
            </a:r>
            <a:endParaRPr b="0" lang="en-US" sz="3300" spc="-1" strike="noStrike">
              <a:solidFill>
                <a:srgbClr val="000000"/>
              </a:solidFill>
              <a:latin typeface="Calibri"/>
            </a:endParaRPr>
          </a:p>
          <a:p>
            <a:pPr lvl="1" marL="743040" indent="-28584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Calibri"/>
              </a:rPr>
              <a:t>Ultrasonidos</a:t>
            </a:r>
            <a:endParaRPr b="0" lang="en-US" sz="3300" spc="-1" strike="noStrike">
              <a:solidFill>
                <a:srgbClr val="000000"/>
              </a:solidFill>
              <a:latin typeface="Calibri"/>
            </a:endParaRPr>
          </a:p>
          <a:p>
            <a:pPr lvl="1" marL="743040" indent="-28584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Calibri"/>
              </a:rPr>
              <a:t>Inyecciones de toxina botulínica </a:t>
            </a:r>
            <a:endParaRPr b="0" lang="en-US" sz="3300" spc="-1" strike="noStrike">
              <a:solidFill>
                <a:srgbClr val="000000"/>
              </a:solidFill>
              <a:latin typeface="Calibri"/>
            </a:endParaRPr>
          </a:p>
          <a:p>
            <a:pPr lvl="1" marL="743040" indent="-28584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Calibri"/>
              </a:rPr>
              <a:t>Vendajes y soportes</a:t>
            </a:r>
            <a:endParaRPr b="0" lang="en-US" sz="3300" spc="-1" strike="noStrike">
              <a:solidFill>
                <a:srgbClr val="000000"/>
              </a:solidFill>
              <a:latin typeface="Calibri"/>
            </a:endParaRPr>
          </a:p>
          <a:p>
            <a:pPr marL="343080" indent="-3430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0000"/>
                </a:solidFill>
                <a:latin typeface="Calibri"/>
              </a:rPr>
              <a:t>No claramente una sobre las otras. </a:t>
            </a:r>
            <a:endParaRPr b="0" lang="en-US" sz="3700" spc="-1" strike="noStrike">
              <a:solidFill>
                <a:srgbClr val="000000"/>
              </a:solidFill>
              <a:latin typeface="Calibri"/>
            </a:endParaRPr>
          </a:p>
          <a:p>
            <a:pPr marL="343080" indent="-3430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0000"/>
                </a:solidFill>
                <a:latin typeface="Calibri"/>
              </a:rPr>
              <a:t>Las infiltraciones intraarticulares no han demostrado eficacia. </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Dolor central</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Dolor quemante o lacerant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mpeora con el tacto con el agua o con los movimiento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Se suele asociar a alteraciones sensitivas como:</a:t>
            </a:r>
            <a:endParaRPr b="0" lang="en-US" sz="21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 “</a:t>
            </a:r>
            <a:r>
              <a:rPr b="0" lang="es-ES" sz="1900" spc="-1" strike="noStrike">
                <a:solidFill>
                  <a:srgbClr val="000000"/>
                </a:solidFill>
                <a:latin typeface="Calibri"/>
              </a:rPr>
              <a:t>Disestesias”, donde estímulos táctiles son percibidos como otra sensación (hormigueo, pinchazos…)</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a:t>
            </a:r>
            <a:r>
              <a:rPr b="0" lang="es-ES" sz="1900" spc="-1" strike="noStrike">
                <a:solidFill>
                  <a:srgbClr val="000000"/>
                </a:solidFill>
                <a:latin typeface="Calibri"/>
              </a:rPr>
              <a:t>Alodinia”, donde ese estímulo táctil es percibido como dolor.</a:t>
            </a:r>
            <a:endParaRPr b="0" lang="en-US" sz="19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a forma de dolor no suele instaurarse de forma precoz, sino que aparece con la evolución, por lo que con frecuencia comienza cuando el paciente ya ha regresado a casa.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l manejo puede ser complicado, porque esta forma de dolor no responde en algunas ocasiones a los tratamientos analgésicos habituales, siendo necesario utilizar analgésicos mayores. Tenemos otros fármacos con acción sobre el dolor central, como algunos antiepilépticos o antidepresivos, que pueden ser necesarios para combatirlo.</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esiones por presión o úlceras por apoyo prolongado</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s escaras son lesiones en la piel de determinadas zonas del cuerpo, sometidas a una presión continua</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n enfermos inmovilizados, se sitúan en las regiones que están en contacto constante con la cama, sillón, etc.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Para su prevención, sus familiares deberán moverles con frecuencia.</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os cambios posturales deben efectuarse de forma periódica y de manera completa</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Se evitarán los dobleces de las sábana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Se prestará especial atención a aquellas zonas de la piel más expuestas a la aparición de escaras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n caso de aparecer enrojecimientos, se evitará el contacto o roce con la zona de la piel afectada.</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Masajes de forma circular en la espalda y zona de apoyo (sacro, caderas, codos, etc.) Con crema hidratant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Colchones antiescara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Problemas venoso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nlentecimiento de la circulación sanguínea en las venas de las piernas.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ta situación puede favorecer la producción de un </a:t>
            </a:r>
            <a:r>
              <a:rPr b="1" lang="es-ES" sz="2100" spc="-1" strike="noStrike">
                <a:solidFill>
                  <a:srgbClr val="000000"/>
                </a:solidFill>
                <a:latin typeface="Calibri"/>
              </a:rPr>
              <a:t>trombo </a:t>
            </a:r>
            <a:r>
              <a:rPr b="0" lang="es-ES" sz="2100" spc="-1" strike="noStrike">
                <a:solidFill>
                  <a:srgbClr val="000000"/>
                </a:solidFill>
                <a:latin typeface="Calibri"/>
              </a:rPr>
              <a:t>en dichas venas, especialmente en la </a:t>
            </a:r>
            <a:r>
              <a:rPr b="1" lang="es-ES" sz="2100" spc="-1" strike="noStrike">
                <a:solidFill>
                  <a:srgbClr val="000000"/>
                </a:solidFill>
                <a:latin typeface="Calibri"/>
              </a:rPr>
              <a:t>zona de las pantorrillas</a:t>
            </a:r>
            <a:r>
              <a:rPr b="0" lang="es-ES" sz="2100" spc="-1" strike="noStrike">
                <a:solidFill>
                  <a:srgbClr val="000000"/>
                </a:solidFill>
                <a:latin typeface="Calibri"/>
              </a:rPr>
              <a:t>. En determinados casos, y si no se toman las medidas adecuadas, estos trombos pueden desprenderse y producir una </a:t>
            </a:r>
            <a:r>
              <a:rPr b="1" lang="es-ES" sz="2100" spc="-1" strike="noStrike">
                <a:solidFill>
                  <a:srgbClr val="000000"/>
                </a:solidFill>
                <a:latin typeface="Calibri"/>
              </a:rPr>
              <a:t>embolia pulmonar</a:t>
            </a:r>
            <a:r>
              <a:rPr b="0" lang="es-ES" sz="2100" spc="-1" strike="noStrike">
                <a:solidFill>
                  <a:srgbClr val="000000"/>
                </a:solidFill>
                <a:latin typeface="Calibri"/>
              </a:rPr>
              <a:t>, lo cual es una complicación grav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Para reducir al máximo el riesgo de trombosis en las piernas, es necesario llevar a cabo movilizaciones, ejercicios, masaje local y sedestación, así como el levantamiento precoz del pacient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n muchos casos, es necesario también el uso de heparina subcutánea (o aspirina), para minimizar el riesgo de complicaciones venosa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Si, a pesar de todo, usted notara </a:t>
            </a:r>
            <a:r>
              <a:rPr b="1" lang="es-ES" sz="2100" spc="-1" strike="noStrike">
                <a:solidFill>
                  <a:srgbClr val="000000"/>
                </a:solidFill>
                <a:latin typeface="Calibri"/>
              </a:rPr>
              <a:t>dolor, calor o enrojecimiento </a:t>
            </a:r>
            <a:r>
              <a:rPr b="0" lang="es-ES" sz="2100" spc="-1" strike="noStrike">
                <a:solidFill>
                  <a:srgbClr val="000000"/>
                </a:solidFill>
                <a:latin typeface="Calibri"/>
              </a:rPr>
              <a:t>en alguna zona de las piernas, deberá comunicarlo </a:t>
            </a:r>
            <a:r>
              <a:rPr b="1" lang="es-ES" sz="2100" spc="-1" strike="noStrike">
                <a:solidFill>
                  <a:srgbClr val="000000"/>
                </a:solidFill>
                <a:latin typeface="Calibri"/>
              </a:rPr>
              <a:t>lo antes posible </a:t>
            </a:r>
            <a:r>
              <a:rPr b="0" lang="es-ES" sz="2100" spc="-1" strike="noStrike">
                <a:solidFill>
                  <a:srgbClr val="000000"/>
                </a:solidFill>
                <a:latin typeface="Calibri"/>
              </a:rPr>
              <a:t>a su médico para ser valorado.</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 </a:t>
            </a:r>
            <a:r>
              <a:rPr b="1" i="1" lang="es-ES" sz="4400" spc="-1" strike="noStrike">
                <a:solidFill>
                  <a:srgbClr val="000000"/>
                </a:solidFill>
                <a:latin typeface="Calibri"/>
              </a:rPr>
              <a:t>Síntomas conductuales o de personalidad tras el ictus</a:t>
            </a:r>
            <a:endParaRPr b="0" lang="en-US" sz="4400" spc="-1" strike="noStrike">
              <a:solidFill>
                <a:srgbClr val="000000"/>
              </a:solidFill>
              <a:latin typeface="Calibri"/>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Síntomas conductuales o de personalidad</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ntre un tercio y la mitad de los pacientes con ictus sufren depresión en algún momento, que puede manifestarse por sentimientos de tristeza o aislamiento, irritabilidad, trastornos del sueño e indiferencia hacia la terapia; a veces incluso tiende a rehusar toda actividad.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 presencia de los familiares y su comunicación con el paciente es fundamental para evitar que el paciente presente actitudes negativas ante la enfermedad y desarrolle un cuadro depresivo que interfiera de forma significativa en el proceso de recuperación.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 importante que se mantenga una vía de comunicación para permitirle expresar cómo se siente.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Para ayudar al paciente hay que huir de las prisas y tratar de que el reaprendizaje de tareas diarias sea una actividad relajante y tener presente que el progreso lleva tiempo.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 bueno ser positivo pero manteniéndonos realista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 posible que algunos pacientes con sintomatología intensa o persistente puedan necesitar tratamiento antidepresivo.</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6T22:34:50Z</dcterms:created>
  <dc:creator>Carlos</dc:creator>
  <dc:description/>
  <dc:language>en-US</dc:language>
  <cp:lastModifiedBy>jramirez</cp:lastModifiedBy>
  <dcterms:modified xsi:type="dcterms:W3CDTF">2012-05-07T17:53:18Z</dcterms:modified>
  <cp:revision>1</cp:revision>
  <dc:subject/>
  <dc:title>Modulo 6. Complicaciones tras el ictus</dc:title>
</cp:coreProperties>
</file>